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6B1-15F8-40BC-970A-9E15D622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BA6-CE27-43DC-8777-DA9DE076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6DF-32B3-448E-8E52-56D2FC73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178-2261-49E7-B573-F33941A1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6C3B-B89F-40A7-BD21-7A3A55E4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FEE7-3F16-4030-8081-DB96D305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5DE3-44F3-40B9-8D06-8B0053D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30A5-66C9-454A-9131-A4D73E5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4D1D-5C53-42FC-B476-D4113177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479F-FA6C-469F-8ECC-DF9F047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EAC-C2EA-4B14-9C31-ABD67C9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43B-245B-42AF-AD5C-2010FD95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17F-8C05-4951-AF12-E643C35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B75E-3D63-4388-86B3-048BB4B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8C9-9248-4365-8751-BBB8E5F3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B6C-0D25-4129-99C4-860C5D91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E236-6AB1-4641-852F-4E062149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B651-872D-4088-9A63-048210F3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36E2-EF34-4728-A942-17D55AB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819F-2819-4D68-8B00-8C73956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8583-1210-478E-BAE1-7BABF54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A2FE-57E5-4C88-8B62-55905252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142-BC7A-4EA0-9F10-D5830D9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E994-4F4B-403D-9606-D826C51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C73C-2D77-48ED-B3B3-473601C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B13A-40AA-41F7-A7EF-9E5D412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4CF4-AA5F-4113-A459-FF1F0DAF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17C6-6366-47B6-839C-B25181D0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5810-C437-4688-8C0A-A761CC23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AF1A-7D3A-4F0E-BDBF-FC20B290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DE6D-56D1-4D85-8CAB-C1C6B337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C001-2DC4-4A9F-9754-2E52378F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5251-DB4F-4A43-9A33-7DCCA2C0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221-9428-423C-A196-20B85FE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2DC8-B374-46A2-89C7-B7039AEE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FCF7-9AC9-4E81-98A4-F19F2407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ADD9-D747-43D2-AAD4-FF18A50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A34D-1C5C-496A-B911-27DE09F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A620-46DB-48BE-A4DF-3115A19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5B07-32A5-4D49-8E19-66A3EE9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A065-5493-4E17-BD1B-432D786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46F7-8A6B-48B4-9A48-9727294D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E2CA-45AD-4A13-96F7-14BCF796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23F5-D781-4AC5-8BC0-CDA61CE4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FA7-6185-41FF-93D8-D78FD721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D19ED-BDAF-4697-8DD9-4C7F498E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F1784-D571-4629-8795-AF3D2777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8FF7B-799E-43DD-8F3D-6BD72009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02670-B421-4F71-BE0C-BCF94C39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462D-BA5A-4FED-83EF-3DD169C1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ACEF-FEF1-4F5F-A9AE-FB159C45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5BB2-9EF3-4C64-BEFC-E0CF162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EDDB-77F7-44EE-B85D-17021AEC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575C-AEE5-4D60-AEB4-616C90CA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6A71-E3F2-4837-9E55-068481A4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F4B-8B00-464B-8822-A78BA0F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4F557-1D2C-41F0-B721-9F668EFA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707-4E15-4034-97CB-9EE589CB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5AA-6D6E-4BCE-BDCA-5EAEBFC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274-8F7C-4E6A-8FC4-54A5340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BF5D-2584-4446-ACC5-732290F65A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119-0D78-4CD8-B91C-6A339ACD40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260-DC76-410F-B125-1BE95341D4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A1F-7B72-4190-B208-CA08312FB4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80AF-9F35-47AE-BB9C-0161CF47F3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5/6 Spelling Quiz 29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ds containing ou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milk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62864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though he _______ bravely, there were too many attackers for him to handle on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70028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walk _____ the forest, be careful, many strange creatures hide in the undergrowth waiting to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ch ______ do you liv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ould love a_______ for my sn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 zero is calle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windscreen has _______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g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f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roject has made a _____, the solution to the problem i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ake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ke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new shoes from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y bag I have _______ some sweets to shar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6T10:50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